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jpeg" ContentType="image/jpeg"/>
  <Override PartName="/ppt/media/applause.wav" ContentType="audio/x-wav"/>
  <Override PartName="/ppt/media/glass.wav" ContentType="audio/x-wav"/>
  <Override PartName="/ppt/media/image5.jpeg" ContentType="image/jpeg"/>
  <Override PartName="/ppt/media/image9.wmf" ContentType="image/x-wmf"/>
  <Override PartName="/ppt/media/image8.jpeg" ContentType="image/jpeg"/>
  <Override PartName="/ppt/media/image7.jpeg" ContentType="image/jpeg"/>
  <Override PartName="/ppt/media/camera.wav" ContentType="audio/x-wav"/>
  <Override PartName="/ppt/media/explode.wav" ContentType="audio/x-wav"/>
  <Override PartName="/ppt/media/cashreg.wav" ContentType="audio/x-wav"/>
  <Override PartName="/ppt/media/image10.wmf" ContentType="image/x-wmf"/>
  <Override PartName="/ppt/media/image4.jpeg" ContentType="image/jpeg"/>
  <Override PartName="/ppt/media/driveby.wav" ContentType="audio/x-wav"/>
  <Override PartName="/ppt/media/image1.jpeg" ContentType="image/jpeg"/>
  <Override PartName="/ppt/media/image2.jpeg" ContentType="image/jpeg"/>
  <Override PartName="/ppt/media/drumroll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F64-C321-4DAB-99CF-49324F61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733-CC06-4028-A030-87339312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F64-BF1B-4C17-9209-DBA1279D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393-9F17-4A9A-A8A1-A18ADA93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294-6D1E-4DF7-BADF-F555DD78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AAE-54FF-4922-A91D-F7A5BD78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863-ACFB-41A6-8E16-514860B8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6EC-67D2-47F9-BC07-E4C10CB2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E0A-DBFE-447E-BCE0-2D24E148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067-DFC5-4729-8116-6E09436A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211-9A6C-432B-BA60-7B650DD3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49F-9BC3-485F-88EC-3E5508B7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4238-FE58-4FF8-A2C7-6061195C5B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ourdeuropephoto.free.fr/photos%20roumanie_fichiers/05-05-04%20DSCN0359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jenscreativecorner.com/youre%20annoying%20me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swa329.org/images/anger.gif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images.google.co.uk/imgres?imgurl=http://www.lasplash.com/artman/uploads/couple-arguing-_1.jpg&amp;imgrefurl=http://www.lasplash.com/Romance/Will_Breathless_Brittany_Mixed-up_Mikela_and_Communicating_Carla_commit_to_relationships_or_just_get_committed_.php&amp;h=215&amp;w=300&amp;sz=17&amp;tbnid=x7IFN9LRP6gJ:&amp;tbnh=79&amp;tbnw=110&amp;start=11&amp;prev=/images%3Fq%3Darguing%26hl%3Den%26lr%3D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miko-usa.com/La%20&amp;%20me%20laughing%20copy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urdeuropephoto.free.fr/photos%20roumanie_fichiers/05-05-04%20DSCN0359.JP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applause.wav"/><Relationship Id="rId4" Type="http://schemas.openxmlformats.org/officeDocument/2006/relationships/audio" Target="../media/camera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enscreativecorner.com/youre%20annoying%20me.jpg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glass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swa329.org/images/anger.gif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asplash.com/artman/uploads/couple-arguing-_1.jpg&amp;imgrefurl=http://www.lasplash.com/Romance/Will_Breathless_Brittany_Mixed-up_Mikela_and_Communicating_Carla_commit_to_relationships_or_just_get_committed_.php&amp;h=215&amp;w=300&amp;sz=17&amp;tbnid=x7IFN9LRP6gJ:&amp;tbnh=79&amp;tbnw=110&amp;start=11&amp;prev=/images%3Fq%3Darguing%26hl%3Den%26lr%3D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imiko-usa.com/La%20&amp;%20me%20laughing%20copy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venderennes.com/Accueil/sortir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.uk/imgres?imgurl=http://www.joygreetings.com/images/friends4.gif&amp;imgrefurl=http://www.joygreetings.com/confide.shtml&amp;h=218&amp;w=250&amp;sz=6&amp;tbnid=iEBQN8jJv_cJ:&amp;tbnh=92&amp;tbnw=106&amp;start=28&amp;prev=/images%3Fq%3Dto%2Bconfide%26start%3D20%26hl%3Den%26lr%3D%26sa%3DN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62120" y="57240"/>
            <a:ext cx="8302680" cy="1312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Les problème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553760" y="2179800"/>
            <a:ext cx="4909680" cy="459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Talking about your relationsh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3880" y="3094200"/>
            <a:ext cx="556272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Saying who you get on with and who           you don’t get on with and wh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images.google.co.uk/images?q=tbn:LGCYAJ7pVqcJ:http://tourdeuropephoto.free.fr/photos%2520roumanie_fichiers/05-05-04%2520DSCN035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3657600" cy="289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http://images.google.co.uk/images?q=tbn:WMAKkgmMMcYJ:http://www.jenscreativecorner.com/youre%2520annoying%2520m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4149360" y="370368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images.google.co.uk/images?q=tbn:VR193FyrxNEJ:http://www.uswa329.org/images/anger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962520"/>
            <a:ext cx="2735280" cy="2895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http://www.ponpokopon.net/bleach4.jpg"/>
          <p:cNvPicPr/>
          <p:nvPr/>
        </p:nvPicPr>
        <p:blipFill>
          <a:blip r:embed="rId3"/>
          <a:stretch/>
        </p:blipFill>
        <p:spPr>
          <a:xfrm>
            <a:off x="0" y="0"/>
            <a:ext cx="3832200" cy="4114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images.google.co.uk/images?q=tbn:x7IFN9LRP6gJ:www.lasplash.com/artman/uploads/couple-arguing-_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68580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978000" y="20574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images.google.co.uk/images?q=tbn:IFV1_UufHhUJ:http://www.kimiko-usa.com/La%2520%26%2520me%2520laughing%2520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0"/>
            <a:ext cx="3809880" cy="2895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ttp://images.google.co.uk/images?q=tbn:uM-HvDEOp18J:http://www.svenderennes.com/Accueil/sortir.jpg"/>
          <p:cNvPicPr/>
          <p:nvPr/>
        </p:nvPicPr>
        <p:blipFill>
          <a:blip r:embed="rId3"/>
          <a:stretch/>
        </p:blipFill>
        <p:spPr>
          <a:xfrm>
            <a:off x="533520" y="24382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images.google.co.uk/images?q=tbn:iEBQN8jJv_cJ:www.joygreetings.com/images/friends4.gif"/>
          <p:cNvPicPr/>
          <p:nvPr/>
        </p:nvPicPr>
        <p:blipFill>
          <a:blip r:embed="rId4"/>
          <a:stretch/>
        </p:blipFill>
        <p:spPr>
          <a:xfrm>
            <a:off x="6629400" y="2286000"/>
            <a:ext cx="212868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\\ED-WGIRL-CS01\RMPackages\Applications\MS Publisher 2000 SP1\v1.2.0.0\PFiles\MSOffice\Clipart\standard\stddir1\BD00024_.WMF"/>
          <p:cNvPicPr/>
          <p:nvPr/>
        </p:nvPicPr>
        <p:blipFill>
          <a:blip r:embed="rId5"/>
          <a:stretch/>
        </p:blipFill>
        <p:spPr>
          <a:xfrm>
            <a:off x="1981080" y="426708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\\ED-WGIRL-CS01\RMPackages\Applications\MS Publisher 2000 SP1\v1.2.0.0\PFiles\MSOffice\Clipart\standard\stddir4\PE02647_.wmf"/>
          <p:cNvPicPr/>
          <p:nvPr/>
        </p:nvPicPr>
        <p:blipFill>
          <a:blip r:embed="rId6"/>
          <a:stretch/>
        </p:blipFill>
        <p:spPr>
          <a:xfrm>
            <a:off x="4724280" y="4267080"/>
            <a:ext cx="2121120" cy="2238480"/>
          </a:xfrm>
          <a:prstGeom prst="rect">
            <a:avLst/>
          </a:prstGeom>
          <a:ln w="0">
            <a:noFill/>
          </a:ln>
        </p:spPr>
      </p:pic>
      <p:sp>
        <p:nvSpPr>
          <p:cNvPr id="88" name="Line 8"/>
          <p:cNvSpPr/>
          <p:nvPr/>
        </p:nvSpPr>
        <p:spPr>
          <a:xfrm flipH="1">
            <a:off x="1980720" y="2743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9"/>
          <p:cNvSpPr/>
          <p:nvPr/>
        </p:nvSpPr>
        <p:spPr>
          <a:xfrm flipH="1">
            <a:off x="3200040" y="2971800"/>
            <a:ext cx="12193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5562720" y="3048120"/>
            <a:ext cx="152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6400800" y="22860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217600" y="644400"/>
            <a:ext cx="70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Je m’entends bien avec…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6" descr="http://images.google.co.uk/images?q=tbn:LGCYAJ7pVqcJ:http://tourdeuropephoto.free.fr/photos%2520roumanie_fichiers/05-05-04%2520DSCN035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133720"/>
            <a:ext cx="365760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5045040" y="54561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 mè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7540560" y="591336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is…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897640" y="5032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n père 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Picture 4" descr="http://images.google.co.uk/images?q=tbn:WMAKkgmMMcYJ:http://www.jenscreativecorner.com/youre%2520annoying%2520m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981080"/>
            <a:ext cx="3657600" cy="3124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4343400" y="55627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00"/>
                </a:solidFill>
                <a:latin typeface="Comic Sans MS"/>
              </a:rPr>
              <a:t>m’ éner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881720" y="309600"/>
            <a:ext cx="602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Comic Sans MS"/>
              </a:rPr>
              <a:t>J’en ai marre de……………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4" descr="http://images.google.co.uk/images?q=tbn:VR193FyrxNEJ:http://www.uswa329.org/images/anger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981080"/>
            <a:ext cx="259092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255840" y="53802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s disput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992600" y="57960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n frère ………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4" descr="http://www.ponpokopon.net/bleach4.jpg"/>
          <p:cNvPicPr/>
          <p:nvPr/>
        </p:nvPicPr>
        <p:blipFill>
          <a:blip r:embed="rId1"/>
          <a:stretch/>
        </p:blipFill>
        <p:spPr>
          <a:xfrm>
            <a:off x="1981080" y="1295280"/>
            <a:ext cx="383220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114800" y="58374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me critiq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" dur="1" fill="hold"/>
                                  <p:tgtEl>
                                    <p:spTgt spid="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32880" y="731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t ………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362320" y="5586480"/>
            <a:ext cx="806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cc"/>
                </a:solidFill>
                <a:latin typeface="Comic Sans MS"/>
              </a:rPr>
              <a:t>on se dispu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6" descr="http://images.google.co.uk/images?q=tbn:x7IFN9LRP6gJ:www.lasplash.com/artman/uploads/couple-arguing-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905120"/>
            <a:ext cx="4343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04320" y="65556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r contre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590920" y="6555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vec ma soeur……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286000" y="1557360"/>
            <a:ext cx="662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e m’entends bie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12" descr="http://images.google.co.uk/images?q=tbn:IFV1_UufHhUJ:http://www.kimiko-usa.com/La%2520%26%2520me%2520laughing%2520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438280"/>
            <a:ext cx="5410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355760" y="274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5" descr="http://images.google.co.uk/images?q=tbn:uM-HvDEOp18J:http://www.svenderennes.com/Accueil/sorti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74456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http://images.google.co.uk/images?q=tbn:iEBQN8jJv_cJ:www.joygreetings.com/images/friends4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7200" y="2514600"/>
            <a:ext cx="2128680" cy="2438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1"/>
          <p:cNvSpPr/>
          <p:nvPr/>
        </p:nvSpPr>
        <p:spPr>
          <a:xfrm>
            <a:off x="428760" y="20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3948120" y="149400"/>
            <a:ext cx="253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cc"/>
                </a:solidFill>
                <a:latin typeface="Comic Sans MS"/>
              </a:rPr>
              <a:t>Je peux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3470040" y="5014800"/>
            <a:ext cx="491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3300"/>
                </a:solidFill>
                <a:latin typeface="Comic Sans MS"/>
              </a:rPr>
              <a:t>me confier à el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876960" y="18720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cc"/>
                </a:solidFill>
                <a:latin typeface="Comic Sans MS"/>
              </a:rPr>
              <a:t>J’ ai le droit de………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3" descr="\\ED-WGIRL-CS01\RMPackages\Applications\MS Publisher 2000 SP1\v1.2.0.0\PFiles\MSOffice\Clipart\standard\stddir1\BD00024_.WMF"/>
          <p:cNvPicPr/>
          <p:nvPr/>
        </p:nvPicPr>
        <p:blipFill>
          <a:blip r:embed="rId1"/>
          <a:stretch/>
        </p:blipFill>
        <p:spPr>
          <a:xfrm>
            <a:off x="685800" y="1752480"/>
            <a:ext cx="1905120" cy="1600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121760" y="339876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um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7" descr="\\ED-WGIRL-CS01\RMPackages\Applications\MS Publisher 2000 SP1\v1.2.0.0\PFiles\MSOffice\Clipart\standard\stddir4\PE02647_.wmf"/>
          <p:cNvPicPr/>
          <p:nvPr/>
        </p:nvPicPr>
        <p:blipFill>
          <a:blip r:embed="rId2"/>
          <a:stretch/>
        </p:blipFill>
        <p:spPr>
          <a:xfrm>
            <a:off x="3511440" y="2133720"/>
            <a:ext cx="2121120" cy="2238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4227480" y="43578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gard</a:t>
            </a:r>
            <a:r>
              <a:rPr b="0" lang="en-GB" sz="2400" spc="-1" strike="noStrike">
                <a:solidFill>
                  <a:srgbClr val="cc00cc"/>
                </a:solidFill>
                <a:latin typeface="Comic Sans MS"/>
              </a:rPr>
              <a:t>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a té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143000" y="5673600"/>
            <a:ext cx="849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cc"/>
                </a:solidFill>
                <a:latin typeface="Comic Sans MS"/>
              </a:rPr>
              <a:t>Je peux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cc99"/>
                </a:solidFill>
                <a:latin typeface="Comic Sans MS"/>
              </a:rPr>
              <a:t>fair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ce qu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je ve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1:38:32Z</dcterms:created>
  <dc:creator>Elisabeth Lampkin</dc:creator>
  <dc:description/>
  <dc:language>en-US</dc:language>
  <cp:lastModifiedBy>scollett</cp:lastModifiedBy>
  <dcterms:modified xsi:type="dcterms:W3CDTF">2011-01-30T07:04:31Z</dcterms:modified>
  <cp:revision>7</cp:revision>
  <dc:subject/>
  <dc:title>PowerPoint Presentation</dc:title>
</cp:coreProperties>
</file>